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7F7-7699-4CB4-BB90-9651398D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A05-7DA9-4933-8EBE-93ACFFF5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F84-C304-4E9D-94AB-98455365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923-8216-4CE0-81FF-F1406C9B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978-7B2B-4DA9-A4A7-D4429D29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593-0AA8-47E8-B23E-719B72E5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FDA-BB7A-4691-8896-DB5EDFD1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DED-88CD-4291-8C08-E402759E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9CA-CA40-4510-A0C6-9000DAEB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0DD-1DB0-4778-8FBD-6D31B052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A02-2523-48F1-A8C8-91959D0F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36F-2E52-4ABB-96AD-BF91FE1C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0B51-CDAB-4178-A4E3-56503CE67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him, in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ecause of hi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affirm the Church’s fa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4:57Z</dcterms:created>
  <dc:creator>Anon Anon</dc:creator>
  <dc:description/>
  <dc:language>en-US</dc:language>
  <cp:lastModifiedBy>Anon Anon</cp:lastModifiedBy>
  <dcterms:modified xsi:type="dcterms:W3CDTF">2005-08-09T05:09:48Z</dcterms:modified>
  <cp:revision>8</cp:revision>
  <dc:subject/>
  <dc:title>Memorial Acclamation (SLD-2)</dc:title>
</cp:coreProperties>
</file>